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B5DA7-064F-4D19-8943-A0078C75A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59B1-AEE5-4B07-8A26-0481B291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6CC9C-7078-4223-B874-55A86B62F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D8568-DBE2-4A94-9A7B-6A57745B4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9CF03-02E2-4BB9-B46A-F5094AECA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C05D7-4B17-41EC-8332-B23A7815B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9F8A7-23CB-431A-BC99-D33805B26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E320E-DD54-4332-96E6-0F69C35AC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713B4-79E2-439A-B102-266AE7F96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81E39-A9E0-4874-AABA-91D21EFC5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6AFC1-4CDF-4377-B674-F6824ED41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9EBB-F190-4F6D-B749-92FAA8E05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046D2-FBD5-415D-B238-CFCC641DA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E409-5B7C-4943-B630-B26D989A0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7EE24-8D3E-4114-9C25-07D988C4E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2242D-EC66-4547-88CC-14CA1339A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806BE-98C9-4E02-8585-9DB12C23D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B95FE-2C59-4163-80B9-115FBF8A2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3F4C4-7F63-4E40-B605-1C347D64E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C6AA0-B6DC-4FE5-8F7A-B911DB24B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49D8D-E52F-4466-8EB6-0609173EC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1A356-AD78-499C-B625-D8BA1452E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70A5-DC08-4678-A785-3E6BB10F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8BF73-85E4-4F21-A82E-262E6A31C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23E38-C276-452D-9972-9442B82A2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773C3-522A-48BC-9E90-4DE5BAE47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A7D30-46F0-456A-BE7A-9FAAA6DAF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A935C-92D4-4A4E-AD7F-E39B150F3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E963D8-2AF0-411C-B744-DAFE8854E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BC163-DBAC-48B4-AF2F-B4BE82D45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6820A1-6D09-4331-B2B8-37161CEE4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0ACAA-0CA2-4C63-AFC2-48503A8D0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C43E5-20F2-4F19-9E0C-830A8FD17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8292-BFBE-4D9D-AAE5-F9F91607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06163-B96F-4725-8159-D41053102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1DFB8-9E1C-472F-9BBD-E7CA8B3C2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A879B-5047-4EFE-ABB4-194B65B2D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58A25-3B75-4774-8B95-6981CC2F8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48F21-3E44-40A9-95A2-39D485549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95A92-3E27-4361-8AF2-BF8C24857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6D735-95E0-422A-B014-04F38BCE6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10CA4-1F47-4E10-A75A-2FCB1729C0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0DABC1-28C2-4D85-A65B-10DF8B80D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6656CE-1E5D-44AA-B110-D027EEC6A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1F99-8FB8-4BE0-A330-90E74230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7A440-9FA8-4D9E-9F1F-0CDA2FA7C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689C7-CE5D-4075-8400-8231457B0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6A2A9-6A1A-4137-9717-20CDACBEA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6B597-4A62-440E-ACB1-7CE45BDE1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8EECC-239A-403C-9C90-2CA9A0ED8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7675C-6C1B-49C9-92ED-2E179D2B8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9805D-C322-4AE1-8098-B67CB4A8A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8B6EF-8B71-496D-8DEA-E3BFB503D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15F61-FC78-4DF9-A466-97BC6A619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4FF0B1-1659-43E9-A5C4-123A1475B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2ADA-AAA8-408E-80EE-95BAFAE2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ECAFA-F6A3-4E50-8B2C-39F72E25A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7346-3355-4409-89AE-976C21C4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18C8-E2B8-4383-8C20-FC559593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E129-F52B-4F88-BB7A-6C74600C3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5360-355D-4F89-90ED-76DCFF13F25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8416-00DB-4200-854B-F4CE46067CF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0BD5-C40A-45F6-9B26-05AC7C4AAD0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BE03-BEDF-4C62-AB39-1262F2466C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143D-9D8F-4394-90DB-19D98E9DCD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1"/>
          <a:stretch/>
        </p:blipFill>
        <p:spPr>
          <a:xfrm>
            <a:off x="-609480" y="914400"/>
            <a:ext cx="304560" cy="304920"/>
          </a:xfrm>
          <a:prstGeom prst="rect">
            <a:avLst/>
          </a:prstGeom>
          <a:ln w="0">
            <a:noFill/>
          </a:ln>
        </p:spPr>
      </p:pic>
      <p:pic>
        <p:nvPicPr>
          <p:cNvPr id="247" name="MS910220001[1].wav" descr=""/>
          <p:cNvPicPr/>
          <p:nvPr/>
        </p:nvPicPr>
        <p:blipFill>
          <a:blip r:embed="rId2"/>
          <a:stretch/>
        </p:blipFill>
        <p:spPr>
          <a:xfrm>
            <a:off x="-685800" y="2133720"/>
            <a:ext cx="304920" cy="304560"/>
          </a:xfrm>
          <a:prstGeom prst="rect">
            <a:avLst/>
          </a:prstGeom>
          <a:ln w="0">
            <a:noFill/>
          </a:ln>
        </p:spPr>
      </p:pic>
      <p:pic>
        <p:nvPicPr>
          <p:cNvPr id="248" name="Picture 9" descr="MC900332360[1]"/>
          <p:cNvPicPr/>
          <p:nvPr/>
        </p:nvPicPr>
        <p:blipFill>
          <a:blip r:embed="rId3">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4">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5"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5" descr="MC900157631[1]"/>
          <p:cNvPicPr/>
          <p:nvPr/>
        </p:nvPicPr>
        <p:blipFill>
          <a:blip r:embed="rId1"/>
          <a:stretch/>
        </p:blipFill>
        <p:spPr>
          <a:xfrm>
            <a:off x="7010280" y="5181480"/>
            <a:ext cx="1797120" cy="1333800"/>
          </a:xfrm>
          <a:prstGeom prst="rect">
            <a:avLst/>
          </a:prstGeom>
          <a:ln w="0">
            <a:noFill/>
          </a:ln>
        </p:spPr>
      </p:pic>
      <p:pic>
        <p:nvPicPr>
          <p:cNvPr id="257" name="Picture 6" descr="MC900215545[1]"/>
          <p:cNvPicPr/>
          <p:nvPr/>
        </p:nvPicPr>
        <p:blipFill>
          <a:blip r:embed="rId2"/>
          <a:stretch/>
        </p:blipFill>
        <p:spPr>
          <a:xfrm>
            <a:off x="228600" y="5105520"/>
            <a:ext cx="205740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59" name="Picture 10" descr="http://t3.gstatic.com/images?q=tbn:ANd9GcQos2e_tPjmr57FOi_wUjfqYy-Dcg7EfdWJTUhedohqhs2SvtSm5w"/>
          <p:cNvPicPr/>
          <p:nvPr/>
        </p:nvPicPr>
        <p:blipFill>
          <a:blip r:embed="rId1"/>
          <a:stretch/>
        </p:blipFill>
        <p:spPr>
          <a:xfrm>
            <a:off x="298440" y="4492800"/>
            <a:ext cx="2500200" cy="184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61" name="Picture 4" descr="MC900295619[1]"/>
          <p:cNvPicPr/>
          <p:nvPr/>
        </p:nvPicPr>
        <p:blipFill>
          <a:blip r:embed="rId1"/>
          <a:stretch/>
        </p:blipFill>
        <p:spPr>
          <a:xfrm>
            <a:off x="7467480" y="5334120"/>
            <a:ext cx="1524240" cy="1361880"/>
          </a:xfrm>
          <a:prstGeom prst="rect">
            <a:avLst/>
          </a:prstGeom>
          <a:ln w="0">
            <a:noFill/>
          </a:ln>
        </p:spPr>
      </p:pic>
      <p:sp>
        <p:nvSpPr>
          <p:cNvPr id="262" name="Text Box 6"/>
          <p:cNvSpPr/>
          <p:nvPr/>
        </p:nvSpPr>
        <p:spPr>
          <a:xfrm>
            <a:off x="304920" y="106668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for this issue is to import unemployed foreign workers and local workers to aff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This will help to ensure that they do not take bribes and at the same time do their work properly. This will also help to solve the issue of un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759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land allocation</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4" name=""/>
          <p:cNvSpPr txBox="1"/>
          <p:nvPr/>
        </p:nvSpPr>
        <p:spPr>
          <a:xfrm>
            <a:off x="380880" y="533520"/>
            <a:ext cx="8229600" cy="6324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not make an area just only for certain things such as for the forests, for farm land and/or for housing and when there seems like there is no space, add on to existing structures like for the farm land, make it like so you can make it one on top of each other and make it so that when it rains, the excess water will seep to the lower floors and for light, the government can place in those lamps that are like the sun(in a way) and let them grow and then be harvested, thus letting the villagers have a dependable income and even maybe, have he government give the villagers a sum of money until they can have a good/steady income and then let them use their crops and maybe even plant trees near there and after a few years they can use these as additional income for their village and have no need to do illegal logging.</a:t>
            </a:r>
            <a:r>
              <a:rPr b="0" lang="en-US" sz="800" spc="-1" strike="noStrike">
                <a:solidFill>
                  <a:srgbClr val="000000"/>
                </a:solidFill>
                <a:latin typeface="Constantia"/>
              </a:rPr>
              <a:t>(I hop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304560"/>
            <a:ext cx="84582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Save the Orangutans from Extinction</a:t>
            </a:r>
            <a:endParaRPr b="0" lang="en-US" sz="4000" spc="-1" strike="noStrike">
              <a:solidFill>
                <a:srgbClr val="04617b"/>
              </a:solidFill>
              <a:latin typeface="Calibri"/>
            </a:endParaRPr>
          </a:p>
        </p:txBody>
      </p:sp>
      <p:pic>
        <p:nvPicPr>
          <p:cNvPr id="266" name="Picture 9" descr="orangutan"/>
          <p:cNvPicPr/>
          <p:nvPr/>
        </p:nvPicPr>
        <p:blipFill>
          <a:blip r:embed="rId1"/>
          <a:srcRect l="0" t="0" r="16666" b="0"/>
          <a:stretch/>
        </p:blipFill>
        <p:spPr>
          <a:xfrm>
            <a:off x="0" y="2889360"/>
            <a:ext cx="9144000" cy="39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Chin Han Wen</cp:lastModifiedBy>
  <dcterms:modified xsi:type="dcterms:W3CDTF">2011-09-13T11:09:12Z</dcterms:modified>
  <cp:revision>12</cp:revision>
  <dc:subject/>
  <dc:title>Slide 1</dc:title>
</cp:coreProperties>
</file>